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ADAEF-2944-456F-8D28-059D397D76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077BD-6C21-48D3-931E-CCDDCB6B43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F7E4B-C6A8-415A-939A-0035FC12D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7A38C-E36C-457F-BCDD-BB01A14C5D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1FE18-67F0-47ED-A0A7-2E3CB9F7B1A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3FB9F-E2E2-4B45-8001-9A6FB5E639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436A1-DAFB-473B-BA80-3C16E04A07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EF222-49BF-402A-84FE-D13F87565A1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6D737-7AD5-4304-88C0-3E4E139315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94CA6-A855-4655-A683-ABF8F119DD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09761-70BB-4C89-AF34-3EE1D28DFE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20833-08CA-411A-B348-DD51D28E21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3307F-156E-4FDB-9A10-AA237C11B2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504EE-731A-484B-B7A9-3CFB7E58EE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B28A6-5118-40AA-98E3-4693BBE71D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5745C-E6BC-49F3-A6EA-7A8301A4A3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B6841-7AAF-4915-BF28-59002DF3C69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96BD-3E21-44D0-8D62-4725D230E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F820-E140-4E71-AA7E-7E6B8658A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8F53-54BD-4FF4-AF14-8ED584893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D59A-5A1E-4929-A5AE-EE2B3F8389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C781-64C3-490C-895E-6B5989A61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8A81-F909-4EF7-A413-7C9C7C66F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0ED5-F1F6-4BE1-B361-0C023996A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EC5A-3EBD-43E0-8642-57BCA77DC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F66B-AB93-47C9-B011-5567264D2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B0BD-2EF5-493E-8404-1E6635290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0DEB-57B1-4B89-AD58-2B72EB747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9BEF-A913-4C41-986B-C048CECB3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91CE9-5B57-4A0C-9B0C-62D93363FDB5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НИН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Лен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   10 .12.2018 года № 34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Ленинского сельсовета Советского района  Курской области на 2019 год и плановый период 2020-2021 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Диаграмма 1"/>
          <p:cNvGraphicFramePr/>
          <p:nvPr/>
        </p:nvGraphicFramePr>
        <p:xfrm>
          <a:off x="1473120" y="1341360"/>
          <a:ext cx="667404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341360"/>
                    <a:ext cx="667404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нин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9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77 58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ни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52 26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25 3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нин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19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>
              <a:lnSpc>
                <a:spcPct val="9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нинского сельсовета Советского района Курской области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652 264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4236840"/>
        </p:xfrm>
        <a:graphic>
          <a:graphicData uri="http://schemas.openxmlformats.org/drawingml/2006/table">
            <a:tbl>
              <a:tblPr/>
              <a:tblGrid>
                <a:gridCol w="6696360"/>
                <a:gridCol w="1536480"/>
              </a:tblGrid>
              <a:tr h="5760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194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нинский сельсовет» Советского района Курской области на 2017-2020гг"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 853 264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нинский сельсовет» Советского района Курской области на 2017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76 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 Муниципальная программа «Управление муниципальным имуществом и земельными ресурсами в м.о «Ленинский сельсовет» Советского района Курской области на 2015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 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О «Ленинский сельсовет» Советского района Курской области на 2015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 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Муниципальная программа «Охрана окружающей среды в м.о «Ленинский сельсовет» Советского района Курской области на 2017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Обеспечение доступным и комфортным жильем и коммунальными услугами граждан в «м.о. Ленинский сельсовет» Советского района Курской области "Благоустройство территорий поселений на 2017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9 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 »в м.о «Ленинский сельсовет» Советского района Курской области на 2017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 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муниципальной службы  в муниципальном образовании Ленинского сельсовета Советского района Советского района Курской области на 2017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 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677880" y="6383160"/>
            <a:ext cx="784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нин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нинского сельсовета Советского района Курской области 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1590840"/>
          <a:ext cx="8209080" cy="2771640"/>
        </p:xfrm>
        <a:graphic>
          <a:graphicData uri="http://schemas.openxmlformats.org/drawingml/2006/table">
            <a:tbl>
              <a:tblPr/>
              <a:tblGrid>
                <a:gridCol w="6620040"/>
                <a:gridCol w="1589040"/>
              </a:tblGrid>
              <a:tr h="50292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954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Ленинский сельсовет Советского района Курской области на 2015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 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Ленинский сельсовет Советского района Курской области на 2014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57 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 Муниципальная программа «Развитие и укрепление материально-технической базы  муниципального образования Ленинский сельсовет Советского района Курской области на 2017-2020гг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61 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нин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н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нинского сельсовета Советского района Курской области на 2019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Л.Ягодкина– начальник отдела бухгалтерского учета и отчетности Ленин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нин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35, Курская область, Советский район пос им.Ленин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Ленин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56-4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56-4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selsovet007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Ленинского сельсовета Советского района Курской области              на 2019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 056 22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 377 58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1 36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03200" y="1297080"/>
            <a:ext cx="2556000" cy="25588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ренда земельных участков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Ленин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19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472428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77 58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75 50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7 8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46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0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2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0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00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53 26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3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 00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920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6804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Ленин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 00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 00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Nadezhda</dc:creator>
  <dc:description/>
  <dc:language>en-US</dc:language>
  <cp:lastModifiedBy>HP_1</cp:lastModifiedBy>
  <cp:lastPrinted>2015-12-29T07:13:55Z</cp:lastPrinted>
  <dcterms:modified xsi:type="dcterms:W3CDTF">2018-12-13T06:38:47Z</dcterms:modified>
  <cp:revision>476</cp:revision>
  <dc:subject/>
  <dc:title>Слайд 1</dc:title>
</cp:coreProperties>
</file>